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3D1-8ACE-4358-84DE-479F1EBD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CC9-85A5-4FDC-8ADE-594EA930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FA06C-2F80-4F0D-A09C-6F13C32D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691E8-DF4D-4CA5-8490-7F9B86FE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6806F-3CB0-41A1-8C1B-4B759283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3C14C-7D7D-40EF-A473-64055492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0A2D4-FC99-4C19-9EF1-82F6D70A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3FA44-3A12-4E95-994D-AF636073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34B14-F2E0-4FE7-9E3B-E1E47751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A8907-B5B7-4CE5-93EC-71F7E4EB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E7623-28FD-4DE7-849C-8FABD958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9D8CA-F58A-4A76-BDC1-CFB1F71F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49A2-7066-496F-80CA-365ACF2C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0EACB-D951-4C21-A9C8-28D329E1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09FE2-DE0D-41BB-988D-DDC4AD84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FDA83-C391-4435-9042-B553B3C6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83BD6-D0BB-46FB-8F36-E699168A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53EC3-090F-466B-94B8-6358631D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20BE3-0A95-4DE5-8E65-56D32432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71574-D2E9-499A-B38F-109AB762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EF33E-6C33-4111-B3DC-84BCECA5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7600C-FAA8-4650-9AEE-FAF65B86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204D9-6A51-419C-B0B2-DB14194E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DE2D-0546-400B-B4A7-DED2F5E0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3C7AC-5BA3-4E1D-9917-3C3A7650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53203-B780-4547-83B4-A8EFCE84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00EF4-0073-46DC-98C2-5C812278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C9A3D-85C1-4515-A7F9-84C0B591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451D6-8FCF-4601-9489-F41EC4B2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A30D0-8362-4FB2-B2C6-DB2933FD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45856-054D-4B2F-902A-E82275DC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1EF38-E7A6-488C-A1F0-B60A71E1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E6853-4F21-4E04-A6AF-3403DFF7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1CD81-A406-4BB7-9FF6-E6BD6AD0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235D-34DD-4D20-8293-98286625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ECB7D-324F-40BE-A7DD-EFA755AF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D972C-163C-4D09-94E6-99767A02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C586D-9AD2-4425-93CE-D9BBA80A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D4360-7A85-47E0-8D03-D430ADF2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1E5A6-761B-4030-A9DF-6D392551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BAC49-518E-4CAF-8893-78517155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ED1F8-915B-4416-89DC-14DD2997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2452D-2F74-4C4E-AC37-60C94657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F14CE-84CA-4C8E-B5FD-CDFB5DAD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B41AE-4875-4D19-AA64-56C92666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C0B5-B570-4551-B2E4-28490FBF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1AB65-2E47-484D-B696-D5DEF43E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F03AD-60A2-44B9-BB43-358DB7FF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9B674-9BA7-43F8-95AF-63214260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7F8FB-45B0-4258-ACD4-6AE3AAE2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D5E62-C74D-4714-B93B-B973AD5A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433D2-0968-4933-AF60-54CE0C54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139F4-7C14-4B0E-9EA9-5A747ED7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29B8C-C31C-4C25-A8E4-DDC91AA7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6DF2C-B65F-40D6-B7AF-ACA5423B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8064B-6D77-4519-A5C0-1B5CC495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4DF0-D4F6-48B7-A8C4-EEED52C4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7E8B1-F41F-4FF8-A2C7-C460D727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2FDE3-2F6F-4DE0-BE43-3E006014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FD6A4-AC27-4F7C-B687-A6044B28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C262F-A9DB-435B-8521-9B9BD7E2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D78A1-B33B-42E0-989C-74903110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317DE-584D-4FB8-B45B-BF215409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C0F51-A578-4FD4-8587-AEC4720C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6269DC-B9AD-431D-8E98-B8E60783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0B3AF-8DAE-448D-A1B9-B73B44F4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4CC17-934A-4177-8C27-1CBC3BAC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8896-EF5C-4D46-992B-673AD3B9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29015-24E1-4B41-8F25-A74E11E6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17A03-0C15-484C-A552-720A3E54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98FC1-6FB3-4F99-8018-68FE1397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F4A4B5-736B-4A1A-83F2-9A8E08A0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1ECE9-58D9-4798-9843-EBE1E337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4E59C-6917-4F37-B7B6-4E8A260C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E2298-0CBA-4EF0-A03C-275F9D3E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FEAEA-6C6C-4FD0-BC54-3BC7851C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DC8E2-FCF8-43C4-B90E-ABE10EC2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05FB61-56B5-4BE6-9B69-79912FBB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CA43-4ABA-4EF0-8A58-62745C4F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E101E6-C033-482F-AD50-7684495B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0E2A9F-DF17-42AF-82D0-9AD5BB2C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A4830B-3EC2-43C1-8C53-DF3600E9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748C97-A08D-4CA7-9146-DE92FB06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EA8FE0-C221-4431-8B29-268A1BDF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A0D94B-FB41-49E0-A7DE-94823F10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08555-40CB-472E-9599-1778A074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DC902-E548-4847-A73D-E0FD84FE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D0637-CCC7-44C4-996F-047B9CDD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31439-55E1-4017-8CD0-17B13A52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D2A1-2710-41BE-961F-FD4285E9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34D3F1-F8A9-4BBF-B146-9D55CC98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C6E3D0-D563-433D-A459-FE81BAF0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A23B0D-3524-4737-8099-AFDB0188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8663A2-8C07-4EB5-8342-F0F2D198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22AED7-B3B7-4D72-9DD4-68CAEB83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0EE411-2F12-4B7D-B56F-8E27B6ED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087719-9F7F-40EB-AE41-A56EFAF8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EBE3C7-9F12-41B6-920F-0E3982F9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526A56-CE2B-4880-889B-E422E28E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23392D-7A17-492B-A350-01DA53D2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1F96-B393-4085-9764-596DBF87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8C6F93-B9F1-49F7-8159-87EF9756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22EDDA-0A4F-431F-A45B-36E3E931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2AADE-C435-4F5C-9293-9AE1D578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C6528C-66E6-4FFC-8872-B7DCB4D9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5615B2-7B63-4389-BD73-5EEBA008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DDB2F6-8DD5-416F-BC39-7FE95DE6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AB4742-6AE3-45DE-A3A7-C29A051E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2B6784-9B62-4C7C-99AE-F4868327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A5DBA5-A2CE-4386-B3C0-B95FE957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30F67D-06DE-4F87-9654-F206C1D6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E095-79FE-4CC9-B0DD-A7E51002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F866-9EC0-412F-A549-08B6EEBE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220071-33DF-43C1-9756-5D77D07A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7B0B2-4271-47A3-B69A-3B90F40B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C1E7FA-9823-4445-92B6-0ABC1A1F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D35FE8-A42D-4CF8-ACBF-939E9E25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1D4FDF-5A3F-45E0-8257-9C7B5FFD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7D9A4D-8BEE-4D0C-A2DF-046F822A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7B2D83-57A9-42E5-9182-72ADFC94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034DBF-FFB4-42DC-81B8-0F37CB5C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C84345-ACA2-4D44-8542-85714E05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EC331C-360B-4C78-A335-4203A579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BAA8-33D2-4AEF-B051-39F3AF30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B0096E-57A4-4632-B280-E4B49802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9BCE7E-DDED-458F-9021-E7F16014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A01703-9565-4A2D-BC4B-DDCE81E3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82C2AD-8E8D-401C-B6DD-C941ACE1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2D27B6-E193-4716-8946-D59FB997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F7F361-C78B-47DD-9951-A60A3C5A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2F4D35-38F7-482B-9A8B-D3122E5F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2605CB-3ED8-4900-9D55-8BC57364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49CDB2-8F1D-4C9C-B0DE-4792C327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49B130-E20C-4926-A1D1-6A239D59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27E3-754E-49D2-9495-5DCAC15C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F2F5D4-78A5-4117-8941-70DE803C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0D9029-9F50-4103-8BA0-0FF263A3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40081B-3C03-43B9-96CD-5FED420C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A3C7B3-426C-4A4C-8D25-22456E54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7C4EBF-2DF8-44F2-A108-9DACCEC8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78EEAB-320B-40CF-9A02-AEDC1AB4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A1F4B9-9C9E-4F73-978C-55FDB35E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311C6F-23D3-44F4-A764-AFFC0E83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AC267B-097C-4289-B6BB-E64301F3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0C022D-D627-4756-A7A0-23F6844A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1ADB-3785-4947-9B22-998858A5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C3F3D9-809A-450E-9753-B1E81A51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60467F-2B1F-42C8-AE91-7263FF22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99B520-3590-4CCE-B178-2E1C3C48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313273-8A49-4E63-8E59-6CD1C866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C7CA00-3C46-46D1-99A3-6884AD75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53194D-48DD-4C36-9436-F64DCD63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1526F3-0184-478B-A6F5-F198BA07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769F7A-6461-4BA6-A5A7-C8CED7FB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5811BB-F9B6-40E4-96EC-D0AB6A3C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47816B-077E-4340-915B-84FCB103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F0D5-A78A-445B-8153-BE9505E3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D8E163-0E3B-444F-869D-801AD4E7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FB1289-DD92-4FE8-987B-B41EF745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AE45E4-0B01-4FA7-B6E4-C90A12F4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A026C0-A91F-4DD6-A13E-D5F978B6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DA06F1-48DA-4B01-9843-F9BEB9DE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48E1B8-3DF8-4ED5-A83D-DE7F46E3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AFE30F-1D8B-4B35-9F7D-5DDCBE1A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55D9AC-E7A9-4A7A-8C60-FF558A67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A102A0-D438-4635-8526-C1091ED1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773FD2-245C-40A6-997C-3AC69C39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2ADA1A-9D85-4AAC-99A0-6C27745D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26E6AC-E4F3-4EB4-8020-000894CA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402DE0-5A03-4020-9C19-4560D82A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072-2F1F-4BFC-A4C0-78980108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26983-7F3E-416B-9779-E98FBC2B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1B41D-6105-4C36-ABF5-D0CF69FC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8551E-3D32-4751-B3B7-D27ABA1B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8D6-6C4A-4993-9F5B-A844AFC2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A253D-CE57-45DB-897D-D233159D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F6635-A9A1-4F94-BEBD-B2779895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A2624-6848-4A45-8E4D-878C3D7E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DBAFC-6709-4892-A9B1-15121F92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8221C-5DA2-4C3D-AFFC-DEE8306F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5BC57-CB73-4DEA-A3C9-443A5D6C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98F7E-AB11-481E-81BD-F3A59665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68491-74B5-4B73-A111-4AD1ADE1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34E06-BE67-49C0-8F7B-DDF6DC24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4EFD3-83B4-4CD8-BBBA-8475EB11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461-2739-4D71-A749-5A32063E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02EB7-4247-4AE2-BE21-B59E01C6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70A8B-FC82-4711-B008-A5C076EA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CD177-A57A-4109-8BAE-0A29738A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E86DC-C4B7-4C7D-A84D-EB1455A5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9C6F1-0B56-4EF3-A136-E5E830E5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E9DCC-DD77-460A-9452-77A1B6A2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D4E57-ED60-4DB4-9401-C1714064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6DDF5-8988-4DE1-A729-EFBDCB39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DD867-D74B-4F35-A666-5CA031BE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B2260-BA99-4801-8761-F467307C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728-5F09-4A36-8AEA-E90FE099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A73DC-6C98-469E-9EC1-414075D5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55945-6F10-4197-81B8-C16BC473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43AFD-C2E2-4AE8-BE81-6A33D8DE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96317-576C-458A-B9AF-342F3B26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E0E3A-81F4-45DC-84CC-FC051E99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05321-FE37-453E-A368-76890196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98421-BC6C-41D3-9F3B-722E6A91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54CDC-900F-40D2-B107-1123408E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977A3-82ED-44F5-944B-B70ECD30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5A0E9-18DD-4368-B5E8-3AE1F925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79F-F672-4F5D-B32E-9EFF98A5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F0D02-27D8-41E2-857F-24D5ADA1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A3918-D8DC-4DDC-8D5C-96E7F2D7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9E7AB-C6D7-422F-A80B-99FEB3B3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C61EB-DC6B-44F6-AC73-F86D88B1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B192C-343D-4CBD-9A1E-1C8F12DF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BEFB1-926E-4CDF-92A6-58146E93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1B92D-A2AB-4091-B71E-88CA7CB6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B61E0-BE7D-48CE-BA04-5C6BCA7B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2025D-791E-4E72-953E-675F5171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FD1E9-A16E-4A33-BB9E-F9CCDBAF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9CAF-79E9-4890-8DB6-3492BAD1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94F8F-A5D4-4777-8169-24E1D530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5A515-96FB-49E8-A6E0-DE6D2EB0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33B45-DCDC-42A0-9182-BE1039F8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6412B-BC9A-442E-9263-CF429C98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08BFB-5ADE-4EDD-9DA1-F4B687F2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BB56A-381F-4A13-B000-C665E8FF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54729-203E-48F9-AFB2-9EFC649E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12F13-AFE9-4251-9FD8-CC219026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94CF6-7DDF-4793-B81D-DE206B2D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28CA1-879A-4B8E-A5E2-88516CF7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236-4DE1-43DC-9925-18AF7627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81874-E048-438C-ACC3-7569E7AB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D1B23-D654-4B62-B42B-18402FF4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63F05-9E62-46F0-A176-499994D2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B53BD-7396-4E33-8675-3ADEF8F1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0641F-0AD5-4617-854D-FA41920E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C7660-C664-46EC-B3A7-4F259664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5762E-9680-4941-BEEC-C6E558DD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969E0-1921-4084-A6DE-FEE5F716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C1394-25A7-4C67-9A49-89023763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B7157-1C33-4CA5-9868-B1B2EE7A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57FF-FB23-4BD5-93EF-2C54C5111B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CF4E-D093-4E20-A2F0-231BF06E08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9F2A-3515-4996-A202-401EF37AFA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1FBC-834A-4720-AC63-F060016B89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4AAD-5AEC-42B1-81D8-F29D9FF7D8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D224-9685-4B5D-835D-BA56CF17EE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EDC2-6792-4AF2-8321-0CBCAB3F27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E831-AD46-4965-ADF8-FEC0F17F8E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E43E-A059-4B9A-AE44-E841714AE2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8DED-F045-4E36-BE0C-E5E2728BD3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C632-5B57-431E-AB8C-6C6CD79A0E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2E14-00C2-4DF9-B860-4997BADE9F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9E03-B6C8-49D2-BBA8-F43DD1601B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FD54-5337-42ED-BC1D-C7BB55C6CF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8FB2-690F-4F76-82DA-C5622F8DCA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D359-E326-4BB7-894F-750F9FEDB9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A5DA-3FB5-426B-8097-56E7529F1D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E405-9372-4E3D-AC8A-D1598E5E7A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DB30-248A-4024-BCA5-FAA62A6F17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0CAD-54D4-4E68-BA9E-0930AECA98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513E-AEE6-45FA-9CA3-DA00CA55B3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CC5D-C6C8-4205-ABDB-86F01D2682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C939-5225-4783-BB00-24D666D94D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0977-2941-4767-96C9-C4E7AEC6D4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307C-3BBD-48E4-A73E-75F30EFBD2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1341-04F5-4B79-B01B-501F85B752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1674-DE60-4BB3-99B9-2F307CCBF7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6CB7-740C-409C-97C3-00BE9DF3BD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71CD-59FE-4B27-BD54-191C795947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2BB6-3F15-4749-A829-01BFB5FAA4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B216-952E-4C5E-8EFD-89031B6F1B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B34A-2C6B-4A0F-98EF-F53B102CF9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2A21-CF3B-48D4-BE23-D71550641F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ED3B-1C1D-4286-88AC-9363358391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105D-F1B8-4F80-95C6-133240A754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317A-CC52-4BA4-A858-7767F3155C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0FA1-A0F8-41AC-82A7-40D5EED5C6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154A-BA71-4A96-AED8-E5A4A025B2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87E0-D1EB-4516-8E8C-56734629EF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193680" y="2973240"/>
            <a:ext cx="8699400" cy="9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2" name="图片 13313" descr=""/>
          <p:cNvPicPr/>
          <p:nvPr/>
        </p:nvPicPr>
        <p:blipFill>
          <a:blip r:embed="rId1"/>
          <a:stretch/>
        </p:blipFill>
        <p:spPr>
          <a:xfrm>
            <a:off x="109440" y="1290600"/>
            <a:ext cx="8925120" cy="42768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1332000" y="3227400"/>
            <a:ext cx="5111640" cy="44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1258920" y="4984920"/>
            <a:ext cx="604980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图片 14337" descr=""/>
          <p:cNvPicPr/>
          <p:nvPr/>
        </p:nvPicPr>
        <p:blipFill>
          <a:blip r:embed="rId1"/>
          <a:stretch/>
        </p:blipFill>
        <p:spPr>
          <a:xfrm>
            <a:off x="423720" y="1785960"/>
            <a:ext cx="8296560" cy="32860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2"/>
          <a:stretch/>
        </p:blipFill>
        <p:spPr>
          <a:xfrm>
            <a:off x="971640" y="2765520"/>
            <a:ext cx="6769080" cy="449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3"/>
          <a:stretch/>
        </p:blipFill>
        <p:spPr>
          <a:xfrm>
            <a:off x="971640" y="4508640"/>
            <a:ext cx="6769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图片 15361" descr=""/>
          <p:cNvPicPr/>
          <p:nvPr/>
        </p:nvPicPr>
        <p:blipFill>
          <a:blip r:embed="rId1"/>
          <a:stretch/>
        </p:blipFill>
        <p:spPr>
          <a:xfrm>
            <a:off x="95400" y="876240"/>
            <a:ext cx="8953200" cy="51055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3"/>
          <a:stretch/>
        </p:blipFill>
        <p:spPr>
          <a:xfrm>
            <a:off x="1187280" y="2852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4"/>
          <a:stretch/>
        </p:blipFill>
        <p:spPr>
          <a:xfrm>
            <a:off x="1187280" y="45813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8" name="图片 16385" descr=""/>
          <p:cNvPicPr/>
          <p:nvPr/>
        </p:nvPicPr>
        <p:blipFill>
          <a:blip r:embed="rId1"/>
          <a:stretch/>
        </p:blipFill>
        <p:spPr>
          <a:xfrm>
            <a:off x="447840" y="2652840"/>
            <a:ext cx="8248320" cy="15523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826920" y="270828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22529" descr=""/>
          <p:cNvPicPr/>
          <p:nvPr/>
        </p:nvPicPr>
        <p:blipFill>
          <a:blip r:embed="rId1"/>
          <a:stretch/>
        </p:blipFill>
        <p:spPr>
          <a:xfrm>
            <a:off x="243000" y="1676520"/>
            <a:ext cx="8658000" cy="3504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1332000" y="2781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6084720" y="278136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1332000" y="3645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6084720" y="3645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1332000" y="45226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7"/>
          <a:stretch/>
        </p:blipFill>
        <p:spPr>
          <a:xfrm>
            <a:off x="6084720" y="452268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图片 21505" descr=""/>
          <p:cNvPicPr/>
          <p:nvPr/>
        </p:nvPicPr>
        <p:blipFill>
          <a:blip r:embed="rId1"/>
          <a:stretch/>
        </p:blipFill>
        <p:spPr>
          <a:xfrm>
            <a:off x="485640" y="1514520"/>
            <a:ext cx="81727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20481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429320" cy="58863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763640" y="4508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8193" descr=""/>
          <p:cNvPicPr/>
          <p:nvPr/>
        </p:nvPicPr>
        <p:blipFill>
          <a:blip r:embed="rId1"/>
          <a:stretch/>
        </p:blipFill>
        <p:spPr>
          <a:xfrm>
            <a:off x="1271520" y="976320"/>
            <a:ext cx="6600960" cy="49053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1619280" y="1052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1619280" y="3645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9217" descr=""/>
          <p:cNvPicPr/>
          <p:nvPr/>
        </p:nvPicPr>
        <p:blipFill>
          <a:blip r:embed="rId1"/>
          <a:stretch/>
        </p:blipFill>
        <p:spPr>
          <a:xfrm>
            <a:off x="480960" y="816120"/>
            <a:ext cx="8182080" cy="57816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826920" y="836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826920" y="350028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0241" descr=""/>
          <p:cNvPicPr/>
          <p:nvPr/>
        </p:nvPicPr>
        <p:blipFill>
          <a:blip r:embed="rId1"/>
          <a:stretch/>
        </p:blipFill>
        <p:spPr>
          <a:xfrm>
            <a:off x="133200" y="2200320"/>
            <a:ext cx="88776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2289" descr=""/>
          <p:cNvPicPr/>
          <p:nvPr/>
        </p:nvPicPr>
        <p:blipFill>
          <a:blip r:embed="rId1"/>
          <a:stretch/>
        </p:blipFill>
        <p:spPr>
          <a:xfrm>
            <a:off x="795240" y="1100160"/>
            <a:ext cx="75535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7" name="图片 11265" descr=""/>
          <p:cNvPicPr/>
          <p:nvPr/>
        </p:nvPicPr>
        <p:blipFill>
          <a:blip r:embed="rId1"/>
          <a:stretch/>
        </p:blipFill>
        <p:spPr>
          <a:xfrm>
            <a:off x="1290600" y="2695680"/>
            <a:ext cx="6562800" cy="14666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3708360" y="2736720"/>
            <a:ext cx="1871640" cy="449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3"/>
          <a:stretch/>
        </p:blipFill>
        <p:spPr>
          <a:xfrm>
            <a:off x="3059280" y="3616200"/>
            <a:ext cx="1871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9:06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